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zipdn102.wav" ContentType="audio/x-wav"/>
  <Override PartName="/ppt/media/PROJCTOR.WAV" ContentType="audio/x-wav"/>
  <Override PartName="/ppt/media/zapbig0g.wav" ContentType="audio/x-wav"/>
  <Override PartName="/ppt/media/camera.wav" ContentType="audio/x-wav"/>
  <Override PartName="/ppt/media/highchime.wav" ContentType="audio/x-wav"/>
  <Override PartName="/ppt/media/boinng04.wav" ContentType="audio/x-wav"/>
  <Override PartName="/ppt/media/partyhorn.wav" ContentType="audio/x-wav"/>
  <Override PartName="/ppt/media/bserie06.wav" ContentType="audio/x-wav"/>
  <Override PartName="/ppt/media/hzipup01.wav" ContentType="audio/x-wav"/>
  <Override PartName="/ppt/media/glass.wav" ContentType="audio/x-wav"/>
  <Override PartName="/ppt/media/cool%20man.wav" ContentType="audio/x-wav"/>
  <Override PartName="/ppt/media/zipup202.wav" ContentType="audio/x-wav"/>
  <Override PartName="/ppt/media/peopleoo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E77-E480-4D64-90E9-A1FEBF2F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7CE-4B6B-48F6-9AC1-0412CD73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EEF-F795-4423-9E02-08501621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FBA-3F47-4003-9173-6FA59809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AD0-58DB-40D3-B0F7-2421EDB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B6C-7A62-4EEF-BD29-2EE3AE75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FC9-5FD4-4845-9CC8-3D60D1C7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C53-C37C-4C57-B3E6-C5A43161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BCF-801F-4789-BBCD-388C33F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994-843B-4850-A8A6-5E41D66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21B-F794-4EA0-9E1A-9FFC9D42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C07-DC10-4A56-BB39-525D9D3E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1E25-591F-4E52-8B36-3DFF3D937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PROJCTOR.WAV"/><Relationship Id="rId4" Type="http://schemas.openxmlformats.org/officeDocument/2006/relationships/audio" Target="../media/partyhorn.wav"/><Relationship Id="rId5" Type="http://schemas.openxmlformats.org/officeDocument/2006/relationships/audio" Target="../media/bserie06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zipup202.wav"/><Relationship Id="rId9" Type="http://schemas.openxmlformats.org/officeDocument/2006/relationships/audio" Target="../media/peopleooo.wav"/><Relationship Id="rId10" Type="http://schemas.openxmlformats.org/officeDocument/2006/relationships/audio" Target="../media/peopleooo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ipup202.wav"/><Relationship Id="rId11" Type="http://schemas.openxmlformats.org/officeDocument/2006/relationships/audio" Target="../media/boinng04.wav"/><Relationship Id="rId12" Type="http://schemas.openxmlformats.org/officeDocument/2006/relationships/audio" Target="../media/cool%20man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cool%20man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ipup202.wav"/><Relationship Id="rId21" Type="http://schemas.openxmlformats.org/officeDocument/2006/relationships/audio" Target="../media/boinng04.wav"/><Relationship Id="rId22" Type="http://schemas.openxmlformats.org/officeDocument/2006/relationships/audio" Target="../media/cool%20man.wav"/><Relationship Id="rId23" Type="http://schemas.openxmlformats.org/officeDocument/2006/relationships/audio" Target="../media/bserie06.wav"/><Relationship Id="rId24" Type="http://schemas.openxmlformats.org/officeDocument/2006/relationships/audio" Target="../media/zapbig0g.wav"/><Relationship Id="rId25" Type="http://schemas.openxmlformats.org/officeDocument/2006/relationships/audio" Target="../media/bserie06.wav"/><Relationship Id="rId26" Type="http://schemas.openxmlformats.org/officeDocument/2006/relationships/audio" Target="../media/zapbig0g.wav"/><Relationship Id="rId27" Type="http://schemas.openxmlformats.org/officeDocument/2006/relationships/audio" Target="../media/cool%20man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glass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glass.wav"/><Relationship Id="rId12" Type="http://schemas.openxmlformats.org/officeDocument/2006/relationships/audio" Target="../media/caralarmoff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PROJCTOR.WAV"/><Relationship Id="rId3" Type="http://schemas.openxmlformats.org/officeDocument/2006/relationships/audio" Target="../media/partyhorn.wav"/><Relationship Id="rId4" Type="http://schemas.openxmlformats.org/officeDocument/2006/relationships/audio" Target="../media/bserie06.wav"/><Relationship Id="rId5" Type="http://schemas.openxmlformats.org/officeDocument/2006/relationships/audio" Target="../media/glass.wav"/><Relationship Id="rId6" Type="http://schemas.openxmlformats.org/officeDocument/2006/relationships/audio" Target="../media/zipup202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glass.wav"/><Relationship Id="rId10" Type="http://schemas.openxmlformats.org/officeDocument/2006/relationships/audio" Target="../media/zipup202.wav"/><Relationship Id="rId11" Type="http://schemas.openxmlformats.org/officeDocument/2006/relationships/audio" Target="../media/peopleooo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glass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glass.wav"/><Relationship Id="rId12" Type="http://schemas.openxmlformats.org/officeDocument/2006/relationships/audio" Target="../media/caralarmoff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ipup202.wav"/><Relationship Id="rId11" Type="http://schemas.openxmlformats.org/officeDocument/2006/relationships/audio" Target="../media/hzipup01.wav"/><Relationship Id="rId12" Type="http://schemas.openxmlformats.org/officeDocument/2006/relationships/audio" Target="../media/cool%20man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hzipup01.wav"/><Relationship Id="rId11" Type="http://schemas.openxmlformats.org/officeDocument/2006/relationships/audio" Target="../media/peopleooo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cool%20man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boinng04.wav"/><Relationship Id="rId14" Type="http://schemas.openxmlformats.org/officeDocument/2006/relationships/audio" Target="../media/cool%20man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boinng04.wav"/><Relationship Id="rId11" Type="http://schemas.openxmlformats.org/officeDocument/2006/relationships/audio" Target="../media/cool%20man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zipup202.wav"/><Relationship Id="rId15" Type="http://schemas.openxmlformats.org/officeDocument/2006/relationships/audio" Target="../media/boinng04.wav"/><Relationship Id="rId16" Type="http://schemas.openxmlformats.org/officeDocument/2006/relationships/audio" Target="../media/cool%20man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boinng04.wav"/><Relationship Id="rId11" Type="http://schemas.openxmlformats.org/officeDocument/2006/relationships/audio" Target="../media/cool%20man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cool%20man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up202.wav"/><Relationship Id="rId20" Type="http://schemas.openxmlformats.org/officeDocument/2006/relationships/audio" Target="../media/boinng04.wav"/><Relationship Id="rId21" Type="http://schemas.openxmlformats.org/officeDocument/2006/relationships/audio" Target="../media/cool%20man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cool%20man.wav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" y="852480"/>
            <a:ext cx="8686800" cy="4046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28800"/>
            <a:ext cx="8626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actoring Special Produc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44800" y="1454040"/>
            <a:ext cx="48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ifference of Two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578400" y="1906560"/>
                <a:ext cx="1631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39960" y="2505240"/>
                <a:ext cx="1629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309920" y="2519280"/>
                <a:ext cx="1579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038400" y="3187800"/>
                <a:ext cx="2635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19400" y="3941640"/>
                <a:ext cx="2216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336920" y="3956040"/>
                <a:ext cx="2168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2920" y="1623960"/>
                <a:ext cx="2971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84080" y="2905200"/>
                <a:ext cx="50929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977760" y="3013200"/>
                <a:ext cx="1793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965320" y="3024360"/>
                <a:ext cx="1792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60520" y="3884760"/>
                <a:ext cx="279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73560" y="3854520"/>
                <a:ext cx="27972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71520" y="444672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327400" y="441468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38280" y="51926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73040" y="5175360"/>
                <a:ext cx="944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6800" y="5197320"/>
                <a:ext cx="11221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997520" y="446256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083280" y="443088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560840" y="520848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67360" y="5173560"/>
                <a:ext cx="9446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892840" y="5183280"/>
                <a:ext cx="1536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442880" y="597384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55720" y="596268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571760" y="588960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801880" y="5889600"/>
                <a:ext cx="5652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80360" y="1403280"/>
                <a:ext cx="138276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335560" y="59896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48400" y="597852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62640" y="590544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696000" y="5905440"/>
                <a:ext cx="563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164360" y="2819520"/>
                <a:ext cx="175248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100160" y="2263680"/>
                <a:ext cx="2874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4960" y="1793880"/>
                <a:ext cx="2587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the Difference of Two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4000" y="2662200"/>
                <a:ext cx="40860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80960" y="2708280"/>
                <a:ext cx="1849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94080" y="2692440"/>
                <a:ext cx="1849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976640" y="1757520"/>
                <a:ext cx="2778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761000" y="2625840"/>
                <a:ext cx="4086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17960" y="2671920"/>
                <a:ext cx="1849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931080" y="2655720"/>
                <a:ext cx="18493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98320" y="3886200"/>
                <a:ext cx="2970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65120" y="465624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9040" y="4732200"/>
                <a:ext cx="1793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600280" y="4729320"/>
                <a:ext cx="1792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8360" y="852480"/>
            <a:ext cx="8686800" cy="4184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928800"/>
            <a:ext cx="8626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actoring Special Produc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4800" y="1454040"/>
            <a:ext cx="48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erfect Square Tr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828720" y="1981080"/>
                <a:ext cx="2946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68440" y="2532240"/>
                <a:ext cx="18208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77880" y="3373560"/>
                <a:ext cx="3449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89240" y="4019400"/>
                <a:ext cx="20714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51440" y="1957320"/>
                <a:ext cx="2946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591160" y="2508120"/>
                <a:ext cx="1820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788000" y="3362400"/>
                <a:ext cx="3402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499000" y="4008600"/>
                <a:ext cx="20242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2960" y="1854360"/>
                <a:ext cx="3689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the Difference of Two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163520" y="2606760"/>
                <a:ext cx="24066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476360" y="292248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08360" y="1879560"/>
                <a:ext cx="4119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600880" y="2570040"/>
                <a:ext cx="240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84532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610320" y="2711520"/>
                <a:ext cx="1009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17600" y="3838680"/>
                <a:ext cx="3736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05000" y="4600440"/>
                <a:ext cx="24066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98680" y="4754520"/>
                <a:ext cx="952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09760" y="478152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030400" y="273996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25440" y="1636560"/>
                <a:ext cx="4935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92160" y="2219400"/>
                <a:ext cx="3468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43080" y="255888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68600" y="2405160"/>
                <a:ext cx="1288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92320" y="3105000"/>
                <a:ext cx="2744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30440" y="3724200"/>
                <a:ext cx="1287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36800" y="3713040"/>
                <a:ext cx="1284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308240" y="44704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92400" y="4581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62280" y="4425840"/>
                <a:ext cx="1346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30360" y="1563840"/>
                <a:ext cx="3881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93840" y="2733840"/>
                <a:ext cx="34704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30360" y="290052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33520" y="2900520"/>
                <a:ext cx="897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25640" y="2163600"/>
                <a:ext cx="3689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81440" y="4235400"/>
                <a:ext cx="895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44800" y="4237200"/>
                <a:ext cx="897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158920" y="4986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67040" y="4919760"/>
                <a:ext cx="89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95840" y="4930920"/>
                <a:ext cx="954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936880" y="562284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9720" y="56116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65400" y="5538960"/>
                <a:ext cx="56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97320" y="5538960"/>
                <a:ext cx="563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618160" y="4863960"/>
                <a:ext cx="14731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50920" y="3627360"/>
                <a:ext cx="2686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5800" y="1563840"/>
                <a:ext cx="488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27000" y="2946240"/>
                <a:ext cx="37512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608120" y="3247920"/>
                <a:ext cx="560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87640" y="3112920"/>
                <a:ext cx="1008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16120" y="2338560"/>
                <a:ext cx="4408200" cy="80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76600" y="4427640"/>
                <a:ext cx="1063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672000" y="4397400"/>
                <a:ext cx="1065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070000" y="51465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11400" y="5415120"/>
                <a:ext cx="590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84120" y="2274840"/>
                <a:ext cx="6717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836720" y="2376360"/>
                <a:ext cx="115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67120" y="2379600"/>
                <a:ext cx="110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502080" y="5241960"/>
                <a:ext cx="11224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268360" y="3824280"/>
                <a:ext cx="246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2120" y="1547640"/>
                <a:ext cx="3546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93720" y="227952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7440" y="2355840"/>
                <a:ext cx="1457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00240" y="2352600"/>
                <a:ext cx="1513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68160" y="3305160"/>
                <a:ext cx="246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441600" y="3305160"/>
                <a:ext cx="246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52360" y="3913200"/>
                <a:ext cx="1063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47760" y="3881520"/>
                <a:ext cx="106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46120" y="465948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87520" y="4897440"/>
                <a:ext cx="590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78200" y="4724280"/>
                <a:ext cx="11221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998880" y="3913200"/>
                <a:ext cx="1008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94280" y="388152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365640" y="46594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307040" y="4897440"/>
                <a:ext cx="590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34080" y="4724280"/>
                <a:ext cx="1536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5760" y="1592280"/>
                <a:ext cx="3833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93720" y="227952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49320" y="2332080"/>
                <a:ext cx="1793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74960" y="2343240"/>
                <a:ext cx="1792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15880" y="3036960"/>
                <a:ext cx="2799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63800" y="3036960"/>
                <a:ext cx="27972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95560" y="3700440"/>
                <a:ext cx="1008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190600" y="366876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561960" y="44467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12920" y="4430880"/>
                <a:ext cx="9446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158920" y="4451400"/>
                <a:ext cx="1063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487760" y="3700440"/>
                <a:ext cx="1008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573880" y="3668760"/>
                <a:ext cx="1009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051440" y="444672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57600" y="4414680"/>
                <a:ext cx="9446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1880" y="4421160"/>
                <a:ext cx="1477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366920" y="522756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79760" y="521640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522440" y="5116680"/>
                <a:ext cx="504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754360" y="5116680"/>
                <a:ext cx="507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614680" y="5425920"/>
                <a:ext cx="138420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826160" y="522756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39000" y="521640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981680" y="5116680"/>
                <a:ext cx="504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213600" y="5116680"/>
                <a:ext cx="507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919840" y="5425920"/>
                <a:ext cx="1752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SS</cp:lastModifiedBy>
  <dcterms:modified xsi:type="dcterms:W3CDTF">2003-02-10T18:38:40Z</dcterms:modified>
  <cp:revision>18</cp:revision>
  <dc:subject/>
  <dc:title>Slide 1</dc:title>
</cp:coreProperties>
</file>